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1639-E8C9-4F9B-A0B3-7E57D5A4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A7CB-3560-4C4A-ADFB-6850E644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FC29-5D4E-4370-B82B-3892F2F3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CC51-BAB2-4C58-89B8-3A89EE2C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4AA9-48E2-4FEA-A3AD-9153822D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01B0-DBC8-4FDC-B14C-FC82261D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E840-2B91-495E-B199-B87274EA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7B04-8CED-4F25-972D-3F8C26AA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CF9A-9261-4484-8031-82B779B5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D857-B369-4CBF-B998-D71BB079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5A2E-D473-4D1A-A204-0F8D617A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F0C1-D7CF-4F89-82AE-993B1AAB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8387-C74B-47BE-9D49-8995BDD4C35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م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حليل التقارير المالية في ظل التضخ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DEA3-0553-4947-A220-C7B5E85ED03E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67080" y="1477800"/>
            <a:ext cx="7660800" cy="103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و التضخم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70320" y="3191040"/>
            <a:ext cx="7650720" cy="2192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زيادة كمية النقود المتوفرة على كمية السلع والخدمات المعروض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زيادة العامة في ا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خفاض القوة الشرائية للنق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837F-055B-44B8-9B03-252C91B2DF17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ق تعديل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02040"/>
            <a:ext cx="411480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467820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05F3-AD63-4063-8B33-88F8FC711F96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346040"/>
            <a:ext cx="7772760" cy="908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917800"/>
            <a:ext cx="8015400" cy="3319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ديل التكلفة التاريخية للاصول والالتز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ى أساس وحدة نقدية ذات قوة شرائية متساوية مرتبطة بالتغ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المستوى العام ل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بناءً عليه يتم تصنيف محتويات قائمة المركز المالي إلى نوع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ن الحسابات: الحسابات النقدية والحسابات غير 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B24F-4B93-4315-9985-11143182F894}" type="slidenum">
              <a:t>4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01160" y="1714680"/>
            <a:ext cx="360360" cy="3744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825120"/>
            <a:ext cx="8020080" cy="9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205000"/>
            <a:ext cx="6933960" cy="1681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النقدية مثل المدينون واوراق القبض والمصروفات المقدمة والدائنون واوراق الدفع والمصروفات المستحق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PT Bold Heading"/>
              </a:rPr>
              <a:t>لا تعدل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4365720"/>
            <a:ext cx="7010280" cy="18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غير النقدية مثل المخزون والمباني وحقوق الملكية تعدل على النحو التالي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كلفة التاريخية (الرقم القياسي للاسعار الآن / الرقم القياسي للاسعار وقت الشرا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7596360" y="28522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7740720" y="51130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3E2D-4964-465D-A36F-342EE293697B}" type="slidenum">
              <a:t>5</a:t>
            </a:fld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1203120"/>
            <a:ext cx="7772760" cy="90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4960" y="2917800"/>
            <a:ext cx="7512120" cy="33195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عدل التكلفة التاريخية على أساس تكلفة الاحلال الجارية في السو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لأصول المماثلة في العمر والكفاءة والطاقة الإنتا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CD7C-ED14-4ADA-836B-05B883695C9E}" type="slidenum">
              <a:t>6</a:t>
            </a:fld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13:06Z</dcterms:modified>
  <cp:revision>18</cp:revision>
  <dc:subject/>
  <dc:title>التحليل المالي والائتماني</dc:title>
</cp:coreProperties>
</file>